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A8A-10ED-4EAF-97EB-A5D31BEB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597-2C12-42FB-8C17-7A89E8DF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5BE9-95A7-48E0-B331-12DFAA48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E7E-4CEF-46B1-88D1-2DCC11D3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874-88E1-41D4-949B-B14D4387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66D-CCC3-4CCD-BB5E-FC5FF1EA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9CF-4174-46AA-816A-984C3464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7B9-AA73-427A-B17E-6E577B52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76C-8E98-4051-9A2E-E807E130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E92-9C3F-490A-A5AC-F617DF39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4FB-0329-4B23-9A0A-10DDE517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CCE-A8D2-4FF3-A51B-648ADFC4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F612-F103-4933-90CB-3152766EF7AE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403880" y="0"/>
            <a:ext cx="474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907920"/>
            <a:ext cx="3505320" cy="79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في ظلّ حمايت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نلتجئ يا مري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لا تردّي طلبتنا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76720" y="755640"/>
            <a:ext cx="379260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يا فخر البرايا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يا خير الور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يا بحر العطايا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في الدنيا جر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3960720" cy="68580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03280" y="915840"/>
            <a:ext cx="6337440" cy="5106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0480" y="44280"/>
            <a:ext cx="72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في ظلّ حمايتك</a:t>
            </a:r>
            <a:r>
              <a:rPr b="1" lang="ar-JO" sz="5400" spc="-1" strike="noStrike">
                <a:solidFill>
                  <a:srgbClr val="663300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نلتجئ يا مري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5943600"/>
            <a:ext cx="72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لا تردّي طلبتنا </a:t>
            </a:r>
            <a:r>
              <a:rPr b="1" lang="ar-JO" sz="5400" spc="-1" strike="noStrike">
                <a:solidFill>
                  <a:srgbClr val="663300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75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14800" y="465120"/>
            <a:ext cx="4800600" cy="87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باب السما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أم الفد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عين الرجا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نور الهد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5256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164360" y="1530360"/>
            <a:ext cx="1835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في ظلّ حمايتك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نلتجئ يا مري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836640"/>
            <a:ext cx="17272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لا تردّي طلبتنا 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769080" cy="46087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08000" y="1500120"/>
            <a:ext cx="8959680" cy="4289400"/>
            <a:chOff x="108000" y="1500120"/>
            <a:chExt cx="8959680" cy="428940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108000" y="1500120"/>
              <a:ext cx="1676520" cy="14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108000" y="4365720"/>
              <a:ext cx="1676520" cy="14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7391520" y="1500120"/>
              <a:ext cx="1676160" cy="14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7391520" y="4365720"/>
              <a:ext cx="1676160" cy="14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611280" y="115920"/>
            <a:ext cx="830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ارحمي عبيداً... باتوا مخلصي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8960" y="5715000"/>
            <a:ext cx="830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بغون المزيد... منكِ كلَّ حي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99ff"/>
            </a:gs>
            <a:gs pos="100000">
              <a:srgbClr val="c0c0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64360" y="1530360"/>
            <a:ext cx="1835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في ظلّ حمايتك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نلتجئ يا مري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836640"/>
            <a:ext cx="17272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لا تردّي طلبتنا 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07-30T05:56:38Z</dcterms:modified>
  <cp:revision>91</cp:revision>
  <dc:subject/>
  <dc:title>PowerPoint Presentation</dc:title>
</cp:coreProperties>
</file>